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2.png" ContentType="image/png"/>
  <Override PartName="/ppt/media/image21.wmf" ContentType="image/x-wmf"/>
  <Override PartName="/ppt/media/image6.jpeg" ContentType="image/jpeg"/>
  <Override PartName="/ppt/media/applause.wav" ContentType="audio/x-wav"/>
  <Override PartName="/ppt/media/chimes.wav" ContentType="audio/x-wav"/>
  <Override PartName="/ppt/media/wind.wav" ContentType="audio/x-wav"/>
  <Override PartName="/ppt/media/image1.jpeg" ContentType="image/jpeg"/>
  <Override PartName="/ppt/media/image7.png" ContentType="image/png"/>
  <Override PartName="/ppt/media/image9.jpeg" ContentType="image/jpeg"/>
  <Override PartName="/ppt/media/image8.jpeg" ContentType="image/jpeg"/>
  <Override PartName="/ppt/media/image27.gif" ContentType="image/gif"/>
  <Override PartName="/ppt/media/image23.wmf" ContentType="image/x-wmf"/>
  <Override PartName="/ppt/media/whoosh.wav" ContentType="audio/x-wav"/>
  <Override PartName="/ppt/media/bomb.wav" ContentType="audio/x-wav"/>
  <Override PartName="/ppt/media/image26.wmf" ContentType="image/x-wmf"/>
  <Override PartName="/ppt/media/image25.wmf" ContentType="image/x-wmf"/>
  <Override PartName="/ppt/media/image5.jpeg" ContentType="image/jpeg"/>
  <Override PartName="/ppt/media/image20.wmf" ContentType="image/x-wmf"/>
  <Override PartName="/ppt/media/image2.jpeg" ContentType="image/jpeg"/>
  <Override PartName="/ppt/media/image18.wmf" ContentType="image/x-wmf"/>
  <Override PartName="/ppt/media/drumroll.wav" ContentType="audio/x-wav"/>
  <Override PartName="/ppt/media/image3.jpeg" ContentType="image/jpeg"/>
  <Override PartName="/ppt/media/image15.png" ContentType="image/png"/>
  <Override PartName="/ppt/media/image4.jpeg" ContentType="image/jpeg"/>
  <Override PartName="/ppt/media/image11.gif" ContentType="image/gif"/>
  <Override PartName="/ppt/media/image10.jpeg" ContentType="image/jpeg"/>
  <Override PartName="/ppt/media/image14.png" ContentType="image/png"/>
  <Override PartName="/ppt/media/image12.jpeg" ContentType="image/jpeg"/>
  <Override PartName="/ppt/media/image13.jpeg" ContentType="image/jpeg"/>
  <Override PartName="/ppt/media/image16.wmf" ContentType="image/x-wmf"/>
  <Override PartName="/ppt/media/image17.wmf" ContentType="image/x-wmf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BC7-C01D-482E-8A58-238451AD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EDC-9665-453B-873F-1AC566D0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87C-6292-43A8-95D1-FEE38866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36C-5989-41F2-A5C3-282AB0CC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7B7-DEE2-43AA-BE23-B3208C7E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EE6-6D76-4A73-8ADE-13B35CC7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0D7-58E7-423F-B262-FF5C85F7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7FC-2521-4FCB-9221-4D70EEC1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67D-9A85-4BDE-A22C-4420413D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999-DB10-40F1-9379-D3915567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2B2-12B7-43FE-BB74-52FFEE23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515-F77A-4FDE-B2D2-7B14D5D0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1140-DC17-4809-8B06-4CECCE582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ittsford.monroe.edu/pittsfordmiddle/Staff/rzogby/Zogby/Images/Bookstack2.jpg&amp;imgrefurl=http://www.pittsford.monroe.edu/pittsfordmiddle/Staff/rzogby/Zogby/English%2520books.html&amp;h=273&amp;w=303&amp;sz=31&amp;hl=en&amp;sig2=Eap0ADuda5Dl9GoQfyslSQ&amp;start=7&amp;tbnid=OLgeMwjbUeR8tM:&amp;tbnh=105&amp;tbnw=116&amp;ei=I5n8Rb7hIoK2hATSmryJDw&amp;prev=/images%3Fq%3Dbook%2Bstack%252Banimation%26gbv%3D2%26svnum%3D10%26hl%3Den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uburn.edu/~murraba/constr/book%2520animation.gif&amp;imgrefurl=http://www.bradleydicken.blogspot.com/&amp;h=200&amp;w=190&amp;sz=37&amp;hl=en&amp;sig2=LIj7vZxMALveWi8j3915uA&amp;start=1&amp;tbnid=FAh8g5cBWMSkTM:&amp;tbnh=104&amp;tbnw=99&amp;ei=9pj8Rb_LD4bG6gH1kc3WDQ&amp;prev=/images%3Fq%3Dbook%252Banimation%26gbv%3D2%26svnum%3D10%26hl%3Den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iblepicturegallery.com/Samples/ca/teaching/x_teach/apologet/Researcher%2520reading%2520books%2520about%2520Biology%2520The%2520Arts%2520M.gif&amp;imgrefurl=http://www.biblepicturegallery.com/pictures/Apologetics/Researcher%2520reading%2520books%2520about%2520Biology%2520The%2520Arts%2520M%2520ca.htm&amp;h=480&amp;w=640&amp;sz=36&amp;hl=en&amp;sig2=C9_dHrrzvOGE0RMczDwyjQ&amp;start=25&amp;tbnid=RlrQuvJco7XECM:&amp;tbnh=103&amp;tbnw=137&amp;ei=2pz8Rf6IFauuad7F5fEO&amp;prev=/images%3Fq%3Dbooks%252Breading%26start%3D20%26gbv%3D2%26ndsp%3D20%26svnum%3D10%26hl%3Den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mclib.elkhart.com/Summer%2520Reading%2520Page/DRAGON%2520%26%2520BOOKS.jpg&amp;imgrefurl=http://mclib.elkhart.com/Summer%2520Reading%2520Page/summer_reading.htm&amp;h=2889&amp;w=2105&amp;sz=1063&amp;hl=en&amp;sig2=D2ibwxLIoQAYfeEzWNl2GA&amp;start=61&amp;tbnid=g8pM0gFlEcnctM:&amp;tbnh=150&amp;tbnw=109&amp;ei=WZ38RZzXN8W06wGy9KnkDQ&amp;prev=/images%3Fq%3Dbooks%252Breading%26start%3D60%26gbv%3D2%26ndsp%3D20%26svnum%3D10%26hl%3Den%26sa%3DN" TargetMode="External"/><Relationship Id="rId8" Type="http://schemas.openxmlformats.org/officeDocument/2006/relationships/image" Target="../media/image4.jpe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g-consulting.com/wp-content/images/newspaper.png&amp;imgrefurl=http://www.og-consulting.com/&amp;h=250&amp;w=178&amp;sz=11&amp;hl=en&amp;sig2=f6f105DzZJkwLQktxLk_jw&amp;start=24&amp;tbnid=-yHuNK7bvmsGpM:&amp;tbnh=111&amp;tbnw=79&amp;ei=pZz9Rd_2HYai6gGk86TZDQ&amp;prev=/images%3Fq%3Dnewspaper%26start%3D20%26gbv%3D2%26ndsp%3D20%26svnum%3D10%26hl%3Den%26sa%3D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cuc.edu/academic/depts/advancement/development/Stack%2520of%2520Books.jpg&amp;imgrefurl=http://www.cuc.edu/academic/depts/advancement/development/giftplanning.html&amp;h=211&amp;w=200&amp;sz=47&amp;hl=en&amp;sig2=QIb4fud3ZcXcCASzyTQBsQ&amp;start=6&amp;tbnid=6TUiRg1Gt4dysM:&amp;tbnh=106&amp;tbnw=100&amp;ei=e478RaS6O8LkafWXnb8P&amp;prev=/images%3Fq%3Dbooks%2Bon%2Bstack%26gbv%3D2%26svnum%3D10%26hl%3Den%26sa%3DG" TargetMode="External"/><Relationship Id="rId3" Type="http://schemas.openxmlformats.org/officeDocument/2006/relationships/image" Target="../media/image8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ducation.qld.gov.au/corporate/newbasics/img/timeline-lg.gif&amp;imgrefurl=http://education.qld.gov.au/corporate/newbasics/html/trial/timeline.html&amp;h=329&amp;w=627&amp;sz=29&amp;hl=en&amp;sig2=4k6Fp53px664HI89e0GQLw&amp;start=17&amp;tbnid=FKYldtBL9JUWDM:&amp;tbnh=71&amp;tbnw=136&amp;ei=SJv9RZ60FYHAhASG5emIDw&amp;prev=/images%3Fq%3DTimeline%26gbv%3D2%26svnum%3D10%26hl%3Den%26sa%3D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history.com/exhibits/toys/images/timeline.gif&amp;imgrefurl=http://www.history.com/exhibits/toys/timeline.html&amp;h=373&amp;w=460&amp;sz=37&amp;hl=en&amp;sig2=ifbI803e5BCtytb5I3_fUA&amp;start=12&amp;tbnid=MUXFUJwsz4WkvM:&amp;tbnh=104&amp;tbnw=128&amp;ei=SJv9RZ60FYHAhASG5emIDw&amp;prev=/images%3Fq%3DTimeline%26gbv%3D2%26svnum%3D10%26hl%3Den%26sa%3DG" TargetMode="External"/><Relationship Id="rId4" Type="http://schemas.openxmlformats.org/officeDocument/2006/relationships/image" Target="../media/image10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hyperlink" Target="http://images.google.com/imgres?imgurl=http://www.monroe.k12.la.us/mcs/images/idea_bank/classifying_critters.jpg&amp;imgrefurl=http://monroe.k12.la.us/mcs/idea_bank/Inspiration/classifying_critters.html&amp;h=269&amp;w=399&amp;sz=20&amp;hl=en&amp;sig2=jw_HPYFSKvEn_XdTELY4AQ&amp;start=7&amp;tbnid=rJWNei3hyr7FsM:&amp;tbnh=84&amp;tbnw=124&amp;ei=fJn9RYLwCqmKae3cpPgP&amp;prev=/images%3Fq%3DClassifying%2Banimals%26gbv%3D2%26svnum%3D10%26hl%3Den%26sa%3D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google.com/imgres?imgurl=http://the-adventurers-club.typepad.com/photos/uncategorized/hellboy_kate_2.jpg&amp;imgrefurl=http://the-adventurers-club.typepad.com/the_adventurers_club/notes_from_the_tiger_compound/index.html&amp;h=470&amp;w=291&amp;sz=22&amp;hl=en&amp;sig2=wBjFPFhLOM6y1N3VU2MXHg&amp;start=30&amp;tbnid=hrEaH6pqRr5zeM:&amp;tbnh=129&amp;tbnw=80&amp;ei=h5r9RZGXOYHGhATG042IDw&amp;prev=/images%3Fq%3DListing%252Banimation%26start%3D20%26gbv%3D2%26ndsp%3D20%26svnum%3D10%26hl%3Den%26sa%3DN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17.wmf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Types of Expository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Course:- CTGE 59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rofessor: S. F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Teacher:- G. Hait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419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4419720"/>
            <a:ext cx="1981080" cy="1904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2286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152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649-D20C-4709-BE12-12F62F0F8265}" type="slidenum">
              <a:t>1</a:t>
            </a:fld>
          </a:p>
        </p:txBody>
      </p:sp>
    </p:spTree>
  </p:cSld>
  <p:transition spd="slow" advTm="17000">
    <p:push dir="r"/>
    <p:sndAc>
      <p:stSnd>
        <p:snd r:embed="rId9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Reading Expository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Marking and high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Visual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Predi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Reading and conn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eciprocal read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double-entry 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1830240" cy="147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6FE-0BC6-4143-8349-9C0F0539FDD1}" type="slidenum">
              <a:t>10</a:t>
            </a:fld>
          </a:p>
        </p:txBody>
      </p:sp>
    </p:spTree>
  </p:cSld>
  <p:transition spd="slow" advTm="54000">
    <p:push dir="r"/>
    <p:sndAc>
      <p:stSnd>
        <p:snd r:embed="rId2" name="chimes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f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Gathering Your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iscussing in pairs and sm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ustering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rawing a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rainsto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Quick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Using anecd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omparing and contr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Using a graphic organ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Using story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304812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C41-3C8B-468B-BEE6-B19E2781AC12}" type="slidenum">
              <a:t>11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expository t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990099"/>
                </a:solidFill>
                <a:latin typeface="Arial"/>
              </a:rPr>
              <a:t>Expository writing is a mode of writing in which the purpose of the author is to inform, explain, describe, or define his or her subject to the rea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9999"/>
                </a:solidFill>
                <a:latin typeface="Arial"/>
              </a:rPr>
              <a:t>Examples of expository texts are textbooks, encyclopedias, scientific books/journals, atlases, directions, guides, biographies, news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320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91320" y="5105520"/>
            <a:ext cx="203832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23D-5C5E-469A-A44A-4CDAF8329B76}" type="slidenum">
              <a:t>2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re are five types of Expository Texts. These are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quence or tim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ause and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oblem-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529-18D9-49BF-89BA-9067ADCC87BF}" type="slidenum">
              <a:t>3</a:t>
            </a:fld>
          </a:p>
        </p:txBody>
      </p:sp>
    </p:spTree>
  </p:cSld>
  <p:transition spd="slow" advTm="36000">
    <p:comb dir="horz"/>
    <p:sndAc>
      <p:stSnd>
        <p:snd r:embed="rId4" name="drumroll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quence or Time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type of expository text is often used to present events such as the French and Indian War (in history class) or cell division (in biology cla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4038480"/>
            <a:ext cx="266724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03848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C5A-5CF5-4F25-93C6-E4EB15039810}" type="slidenum">
              <a:t>4</a:t>
            </a:fld>
          </a:p>
        </p:txBody>
      </p:sp>
    </p:spTree>
  </p:cSld>
  <p:transition spd="slow" advTm="51000">
    <p:wedge/>
    <p:sndAc>
      <p:stSnd>
        <p:snd r:embed="rId5" name="whoosh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68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68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ng (or description) is used to explain the features of an object or event. Biology textbooks list the features of reptiles, giving their body temperature, reproductive habits, eating habi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34340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4267080"/>
            <a:ext cx="1600200" cy="221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102-DEF6-41E3-AF60-0BE1BA69D345}" type="slidenum">
              <a:t>5</a:t>
            </a:fld>
          </a:p>
        </p:txBody>
      </p:sp>
    </p:spTree>
  </p:cSld>
  <p:transition spd="slow" advTm="56000">
    <p:comb dir="horz"/>
    <p:sndAc>
      <p:stSnd>
        <p:snd r:embed="rId7" name="drumroll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Compare and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ompare and contrast involves discussing similarities and differences. A Social Studies book might compare the Government of the United States and the Government of Great Brit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2133720" cy="1693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451160" cy="182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CE7-EC7A-4436-9F3C-6009CE31483A}" type="slidenum">
              <a:t>6</a:t>
            </a:fld>
          </a:p>
        </p:txBody>
      </p:sp>
    </p:spTree>
  </p:cSld>
  <p:transition spd="slow" advTm="56000">
    <p:pull dir="d"/>
    <p:sndAc>
      <p:stSnd>
        <p:snd r:embed="rId5" name="wind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se-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A cause-effect pattern outlines reasons for events. The author describes an event (such as the American Revolutionary War) and explains what caused the event and the effects that followed from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72" name="Cloud"/>
          <p:cNvSpPr/>
          <p:nvPr/>
        </p:nvSpPr>
        <p:spPr>
          <a:xfrm>
            <a:off x="3505320" y="411480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781680" y="4114800"/>
            <a:ext cx="1827360" cy="18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655-D779-4101-BB10-5F2691091D07}" type="slidenum">
              <a:t>7</a:t>
            </a:fld>
          </a:p>
        </p:txBody>
      </p:sp>
    </p:spTree>
  </p:cSld>
  <p:transition spd="slow" advTm="60000">
    <p:strips dir="rd"/>
    <p:sndAc>
      <p:stSnd>
        <p:snd r:embed="rId4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roblem-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roblem-Solution pattern discuss a problem and then suggest possible solutions. A history author might discuss the events of FDR’s life in terms of problems he faced and how he solve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00200" y="4724280"/>
            <a:ext cx="1752480" cy="1809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267080" y="4495680"/>
            <a:ext cx="1163880" cy="1981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629400" y="4495680"/>
            <a:ext cx="1830240" cy="15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2A7-7B31-4875-A2E1-16752C14D7B7}" type="slidenum">
              <a:t>8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efore Reading Expository Tex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alking through 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ing an anticipated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ing K-W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ing word w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ing a read-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ing a think-pair-and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kimming and sc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185920" cy="26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A95-105E-40C7-8541-4AA6F18111EE}" type="slidenum">
              <a:t>9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3:32:16Z</dcterms:created>
  <dc:creator>ANANTHA PASKARAN</dc:creator>
  <dc:description/>
  <dc:language>en-US</dc:language>
  <cp:lastModifiedBy>ANANTHA PASKARAN</cp:lastModifiedBy>
  <dcterms:modified xsi:type="dcterms:W3CDTF">2007-04-24T03:52:19Z</dcterms:modified>
  <cp:revision>50</cp:revision>
  <dc:subject/>
  <dc:title>Types of Expository Texts</dc:title>
</cp:coreProperties>
</file>